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879-223C-497E-B1B3-51E4A94E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72A-F47E-4672-BF7C-1524D96A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0DD4-0372-407A-BFA7-E9823B4F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BA0-34B0-461C-8B13-36EFAC45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9F3-3707-4D33-BAF5-4B966DFB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40E3-FAA9-42DF-B806-2BDF09C6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1926-8EAD-4EAA-9519-1004DB13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6822-0D13-471A-9757-E93AE5FF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BAB9-95A4-4A3E-8B6A-63A70748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3375-E71C-4E4A-BECD-8AE66146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E2D-E1A2-43D0-AC0A-0A09A177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9998-EAA5-4B5D-BF5F-978BE859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AA7F-BBA2-4121-A6EC-C98B9744E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7200" y="228600"/>
            <a:ext cx="5105160" cy="6248160"/>
            <a:chOff x="457200" y="228600"/>
            <a:chExt cx="5105160" cy="6248160"/>
          </a:xfrm>
        </p:grpSpPr>
        <p:sp>
          <p:nvSpPr>
            <p:cNvPr id="42" name=""/>
            <p:cNvSpPr/>
            <p:nvPr/>
          </p:nvSpPr>
          <p:spPr>
            <a:xfrm>
              <a:off x="457200" y="228600"/>
              <a:ext cx="5105160" cy="62481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914400" y="685800"/>
              <a:ext cx="4190400" cy="4800600"/>
              <a:chOff x="914400" y="685800"/>
              <a:chExt cx="4190400" cy="480060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914400" y="685800"/>
                <a:ext cx="304560" cy="4800600"/>
                <a:chOff x="914400" y="685800"/>
                <a:chExt cx="304560" cy="48006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106668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" name=""/>
                <p:cNvGrpSpPr/>
                <p:nvPr/>
              </p:nvGrpSpPr>
              <p:grpSpPr>
                <a:xfrm>
                  <a:off x="914400" y="685800"/>
                  <a:ext cx="304560" cy="4800600"/>
                  <a:chOff x="914400" y="685800"/>
                  <a:chExt cx="304560" cy="4800600"/>
                </a:xfrm>
              </p:grpSpPr>
              <p:sp>
                <p:nvSpPr>
                  <p:cNvPr id="47" name=""/>
                  <p:cNvSpPr/>
                  <p:nvPr/>
                </p:nvSpPr>
                <p:spPr>
                  <a:xfrm>
                    <a:off x="914400" y="685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914400" y="15242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91440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914400" y="4114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914400" y="3581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914400" y="2514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914400" y="30481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914400" y="4648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914400" y="5181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91440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" name=""/>
              <p:cNvGrpSpPr/>
              <p:nvPr/>
            </p:nvGrpSpPr>
            <p:grpSpPr>
              <a:xfrm>
                <a:off x="3733560" y="685800"/>
                <a:ext cx="304560" cy="4800600"/>
                <a:chOff x="3733560" y="685800"/>
                <a:chExt cx="304560" cy="480060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388584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" name=""/>
                <p:cNvGrpSpPr/>
                <p:nvPr/>
              </p:nvGrpSpPr>
              <p:grpSpPr>
                <a:xfrm>
                  <a:off x="3733560" y="685800"/>
                  <a:ext cx="304560" cy="4800600"/>
                  <a:chOff x="3733560" y="685800"/>
                  <a:chExt cx="304560" cy="480060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>
                    <a:off x="3733560" y="685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3733560" y="15242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373356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3733560" y="4114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3733560" y="3581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3733560" y="2514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3733560" y="30481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3733560" y="4648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733560" y="5181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373356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" name=""/>
              <p:cNvGrpSpPr/>
              <p:nvPr/>
            </p:nvGrpSpPr>
            <p:grpSpPr>
              <a:xfrm>
                <a:off x="1523880" y="685800"/>
                <a:ext cx="304200" cy="4800600"/>
                <a:chOff x="1523880" y="685800"/>
                <a:chExt cx="304200" cy="48006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167580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" name=""/>
                <p:cNvGrpSpPr/>
                <p:nvPr/>
              </p:nvGrpSpPr>
              <p:grpSpPr>
                <a:xfrm>
                  <a:off x="1523880" y="685800"/>
                  <a:ext cx="304200" cy="4800600"/>
                  <a:chOff x="1523880" y="685800"/>
                  <a:chExt cx="304200" cy="480060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1523880" y="685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1523880" y="15242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1523880" y="19814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523880" y="4114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523880" y="35816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523880" y="25146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1523880" y="30481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523880" y="46483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523880" y="51818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523880" y="11430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" name=""/>
              <p:cNvGrpSpPr/>
              <p:nvPr/>
            </p:nvGrpSpPr>
            <p:grpSpPr>
              <a:xfrm>
                <a:off x="3200040" y="685800"/>
                <a:ext cx="304560" cy="4800600"/>
                <a:chOff x="3200040" y="685800"/>
                <a:chExt cx="304560" cy="480060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35232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" name=""/>
                <p:cNvGrpSpPr/>
                <p:nvPr/>
              </p:nvGrpSpPr>
              <p:grpSpPr>
                <a:xfrm>
                  <a:off x="3200040" y="685800"/>
                  <a:ext cx="304560" cy="4800600"/>
                  <a:chOff x="3200040" y="685800"/>
                  <a:chExt cx="304560" cy="480060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3200040" y="685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3200040" y="15242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320004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3200040" y="4114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3200040" y="3581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3200040" y="2514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3200040" y="30481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3200040" y="4648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3200040" y="5181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320004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" name=""/>
              <p:cNvGrpSpPr/>
              <p:nvPr/>
            </p:nvGrpSpPr>
            <p:grpSpPr>
              <a:xfrm>
                <a:off x="2666880" y="685800"/>
                <a:ext cx="304200" cy="4800600"/>
                <a:chOff x="2666880" y="685800"/>
                <a:chExt cx="304200" cy="48006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81880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666880" y="685800"/>
                  <a:ext cx="304200" cy="4800600"/>
                  <a:chOff x="2666880" y="685800"/>
                  <a:chExt cx="304200" cy="4800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2666880" y="685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2666880" y="15242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2666880" y="19814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2666880" y="4114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666880" y="35816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2666880" y="25146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2666880" y="30481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2666880" y="46483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2666880" y="51818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2666880" y="11430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2133360" y="685800"/>
                <a:ext cx="304560" cy="4800600"/>
                <a:chOff x="2133360" y="685800"/>
                <a:chExt cx="304560" cy="4800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28564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" name=""/>
                <p:cNvGrpSpPr/>
                <p:nvPr/>
              </p:nvGrpSpPr>
              <p:grpSpPr>
                <a:xfrm>
                  <a:off x="2133360" y="685800"/>
                  <a:ext cx="304560" cy="4800600"/>
                  <a:chOff x="2133360" y="685800"/>
                  <a:chExt cx="304560" cy="480060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2133360" y="685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2133360" y="15242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213336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2133360" y="4114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2133360" y="3581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2133360" y="2514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2133360" y="30481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2133360" y="4648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2133360" y="5181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213336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"/>
              <p:cNvGrpSpPr/>
              <p:nvPr/>
            </p:nvGrpSpPr>
            <p:grpSpPr>
              <a:xfrm>
                <a:off x="4267080" y="685800"/>
                <a:ext cx="304200" cy="4800600"/>
                <a:chOff x="4267080" y="685800"/>
                <a:chExt cx="304200" cy="48006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441900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"/>
                <p:cNvGrpSpPr/>
                <p:nvPr/>
              </p:nvGrpSpPr>
              <p:grpSpPr>
                <a:xfrm>
                  <a:off x="4267080" y="685800"/>
                  <a:ext cx="304200" cy="4800600"/>
                  <a:chOff x="4267080" y="685800"/>
                  <a:chExt cx="304200" cy="480060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4267080" y="685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4267080" y="15242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4267080" y="19814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4267080" y="4114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4267080" y="35816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4267080" y="25146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4267080" y="30481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4267080" y="46483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4267080" y="51818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267080" y="11430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" name=""/>
              <p:cNvGrpSpPr/>
              <p:nvPr/>
            </p:nvGrpSpPr>
            <p:grpSpPr>
              <a:xfrm>
                <a:off x="4800240" y="685800"/>
                <a:ext cx="304560" cy="4800600"/>
                <a:chOff x="4800240" y="685800"/>
                <a:chExt cx="304560" cy="48006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95252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" name=""/>
                <p:cNvGrpSpPr/>
                <p:nvPr/>
              </p:nvGrpSpPr>
              <p:grpSpPr>
                <a:xfrm>
                  <a:off x="4800240" y="685800"/>
                  <a:ext cx="304560" cy="4800600"/>
                  <a:chOff x="4800240" y="685800"/>
                  <a:chExt cx="304560" cy="480060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4800240" y="685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800240" y="15242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480024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4800240" y="4114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4800240" y="3581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4800240" y="2514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4800240" y="30481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4800240" y="4648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4800240" y="5181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480024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8" name=""/>
            <p:cNvGrpSpPr/>
            <p:nvPr/>
          </p:nvGrpSpPr>
          <p:grpSpPr>
            <a:xfrm>
              <a:off x="1066680" y="838080"/>
              <a:ext cx="3657240" cy="4800600"/>
              <a:chOff x="1066680" y="838080"/>
              <a:chExt cx="3657240" cy="48006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1066680" y="838080"/>
                <a:ext cx="304560" cy="4800600"/>
                <a:chOff x="1066680" y="838080"/>
                <a:chExt cx="304560" cy="48006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21896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" name=""/>
                <p:cNvGrpSpPr/>
                <p:nvPr/>
              </p:nvGrpSpPr>
              <p:grpSpPr>
                <a:xfrm>
                  <a:off x="1066680" y="838080"/>
                  <a:ext cx="304560" cy="4800600"/>
                  <a:chOff x="1066680" y="838080"/>
                  <a:chExt cx="304560" cy="480060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>
                    <a:off x="106668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106668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106668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06668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06668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06668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06668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06668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106668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06668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2" name=""/>
              <p:cNvGrpSpPr/>
              <p:nvPr/>
            </p:nvGrpSpPr>
            <p:grpSpPr>
              <a:xfrm>
                <a:off x="3885840" y="838080"/>
                <a:ext cx="304560" cy="4800600"/>
                <a:chOff x="3885840" y="838080"/>
                <a:chExt cx="304560" cy="48006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03812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3885840" y="838080"/>
                  <a:ext cx="304560" cy="4800600"/>
                  <a:chOff x="3885840" y="838080"/>
                  <a:chExt cx="304560" cy="48006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388584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388584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388584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388584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88584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388584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88584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88584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388584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388584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" name=""/>
              <p:cNvGrpSpPr/>
              <p:nvPr/>
            </p:nvGrpSpPr>
            <p:grpSpPr>
              <a:xfrm>
                <a:off x="1676160" y="838080"/>
                <a:ext cx="304560" cy="4800600"/>
                <a:chOff x="1676160" y="838080"/>
                <a:chExt cx="304560" cy="48006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82844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1676160" y="838080"/>
                  <a:ext cx="304560" cy="4800600"/>
                  <a:chOff x="1676160" y="838080"/>
                  <a:chExt cx="304560" cy="480060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167616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67616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167616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67616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167616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167616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167616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167616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167616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167616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3352680" y="838080"/>
                <a:ext cx="304560" cy="4800600"/>
                <a:chOff x="3352680" y="838080"/>
                <a:chExt cx="304560" cy="48006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350496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3352680" y="838080"/>
                  <a:ext cx="304560" cy="4800600"/>
                  <a:chOff x="3352680" y="838080"/>
                  <a:chExt cx="304560" cy="48006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335268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35268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35268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35268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35268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35268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35268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35268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335268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335268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1" name=""/>
              <p:cNvGrpSpPr/>
              <p:nvPr/>
            </p:nvGrpSpPr>
            <p:grpSpPr>
              <a:xfrm>
                <a:off x="2819160" y="838080"/>
                <a:ext cx="304560" cy="4800600"/>
                <a:chOff x="2819160" y="838080"/>
                <a:chExt cx="304560" cy="48006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97144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" name=""/>
                <p:cNvGrpSpPr/>
                <p:nvPr/>
              </p:nvGrpSpPr>
              <p:grpSpPr>
                <a:xfrm>
                  <a:off x="2819160" y="838080"/>
                  <a:ext cx="304560" cy="4800600"/>
                  <a:chOff x="2819160" y="838080"/>
                  <a:chExt cx="304560" cy="48006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281916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81916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281916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81916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281916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281916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81916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81916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81916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281916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4" name=""/>
              <p:cNvGrpSpPr/>
              <p:nvPr/>
            </p:nvGrpSpPr>
            <p:grpSpPr>
              <a:xfrm>
                <a:off x="2285640" y="838080"/>
                <a:ext cx="304560" cy="4800600"/>
                <a:chOff x="2285640" y="838080"/>
                <a:chExt cx="304560" cy="48006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43792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"/>
                <p:cNvGrpSpPr/>
                <p:nvPr/>
              </p:nvGrpSpPr>
              <p:grpSpPr>
                <a:xfrm>
                  <a:off x="2285640" y="838080"/>
                  <a:ext cx="304560" cy="4800600"/>
                  <a:chOff x="2285640" y="838080"/>
                  <a:chExt cx="304560" cy="480060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228564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228564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228564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28564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228564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28564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228564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28564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28564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28564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7" name=""/>
              <p:cNvGrpSpPr/>
              <p:nvPr/>
            </p:nvGrpSpPr>
            <p:grpSpPr>
              <a:xfrm>
                <a:off x="4419360" y="838080"/>
                <a:ext cx="304560" cy="4800600"/>
                <a:chOff x="4419360" y="838080"/>
                <a:chExt cx="304560" cy="48006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57164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9" name=""/>
                <p:cNvGrpSpPr/>
                <p:nvPr/>
              </p:nvGrpSpPr>
              <p:grpSpPr>
                <a:xfrm>
                  <a:off x="4419360" y="838080"/>
                  <a:ext cx="304560" cy="4800600"/>
                  <a:chOff x="4419360" y="838080"/>
                  <a:chExt cx="304560" cy="480060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441936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41936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441936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41936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41936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41936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41936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41936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41936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441936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0" name=""/>
            <p:cNvGrpSpPr/>
            <p:nvPr/>
          </p:nvGrpSpPr>
          <p:grpSpPr>
            <a:xfrm>
              <a:off x="1218960" y="990360"/>
              <a:ext cx="3657240" cy="4800600"/>
              <a:chOff x="1218960" y="990360"/>
              <a:chExt cx="3657240" cy="480060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1218960" y="990360"/>
                <a:ext cx="304560" cy="4800600"/>
                <a:chOff x="1218960" y="990360"/>
                <a:chExt cx="304560" cy="48006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37124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1218960" y="990360"/>
                  <a:ext cx="304560" cy="4800600"/>
                  <a:chOff x="1218960" y="990360"/>
                  <a:chExt cx="304560" cy="480060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121896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121896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121896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121896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121896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121896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121896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121896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121896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121896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4" name=""/>
              <p:cNvGrpSpPr/>
              <p:nvPr/>
            </p:nvGrpSpPr>
            <p:grpSpPr>
              <a:xfrm>
                <a:off x="4038120" y="990360"/>
                <a:ext cx="304560" cy="4800600"/>
                <a:chOff x="4038120" y="990360"/>
                <a:chExt cx="304560" cy="48006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19040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6" name=""/>
                <p:cNvGrpSpPr/>
                <p:nvPr/>
              </p:nvGrpSpPr>
              <p:grpSpPr>
                <a:xfrm>
                  <a:off x="4038120" y="990360"/>
                  <a:ext cx="304560" cy="4800600"/>
                  <a:chOff x="4038120" y="990360"/>
                  <a:chExt cx="304560" cy="480060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403812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403812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403812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403812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403812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403812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403812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403812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403812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403812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1828440" y="990360"/>
                <a:ext cx="304560" cy="4800600"/>
                <a:chOff x="1828440" y="990360"/>
                <a:chExt cx="304560" cy="48006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98072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1828440" y="990360"/>
                  <a:ext cx="304560" cy="4800600"/>
                  <a:chOff x="1828440" y="990360"/>
                  <a:chExt cx="304560" cy="480060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182844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82844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182844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182844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182844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182844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82844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182844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182844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182844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0" name=""/>
              <p:cNvGrpSpPr/>
              <p:nvPr/>
            </p:nvGrpSpPr>
            <p:grpSpPr>
              <a:xfrm>
                <a:off x="3504960" y="990360"/>
                <a:ext cx="304560" cy="4800600"/>
                <a:chOff x="3504960" y="990360"/>
                <a:chExt cx="304560" cy="48006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65724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2" name=""/>
                <p:cNvGrpSpPr/>
                <p:nvPr/>
              </p:nvGrpSpPr>
              <p:grpSpPr>
                <a:xfrm>
                  <a:off x="3504960" y="990360"/>
                  <a:ext cx="304560" cy="4800600"/>
                  <a:chOff x="3504960" y="990360"/>
                  <a:chExt cx="304560" cy="480060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350496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350496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350496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50496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50496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350496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350496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350496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50496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50496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3" name=""/>
              <p:cNvGrpSpPr/>
              <p:nvPr/>
            </p:nvGrpSpPr>
            <p:grpSpPr>
              <a:xfrm>
                <a:off x="2971440" y="990360"/>
                <a:ext cx="304560" cy="4800600"/>
                <a:chOff x="2971440" y="990360"/>
                <a:chExt cx="304560" cy="48006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12372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2971440" y="990360"/>
                  <a:ext cx="304560" cy="4800600"/>
                  <a:chOff x="2971440" y="990360"/>
                  <a:chExt cx="304560" cy="480060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297144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97144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97144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97144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97144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97144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97144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97144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297144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97144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6" name=""/>
              <p:cNvGrpSpPr/>
              <p:nvPr/>
            </p:nvGrpSpPr>
            <p:grpSpPr>
              <a:xfrm>
                <a:off x="2437920" y="990360"/>
                <a:ext cx="304560" cy="4800600"/>
                <a:chOff x="2437920" y="990360"/>
                <a:chExt cx="304560" cy="48006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59020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" name=""/>
                <p:cNvGrpSpPr/>
                <p:nvPr/>
              </p:nvGrpSpPr>
              <p:grpSpPr>
                <a:xfrm>
                  <a:off x="2437920" y="990360"/>
                  <a:ext cx="304560" cy="4800600"/>
                  <a:chOff x="2437920" y="990360"/>
                  <a:chExt cx="304560" cy="48006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243792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43792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43792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43792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43792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43792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43792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43792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43792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43792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9" name=""/>
              <p:cNvGrpSpPr/>
              <p:nvPr/>
            </p:nvGrpSpPr>
            <p:grpSpPr>
              <a:xfrm>
                <a:off x="4571640" y="990360"/>
                <a:ext cx="304560" cy="4800600"/>
                <a:chOff x="4571640" y="990360"/>
                <a:chExt cx="304560" cy="48006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472392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4571640" y="990360"/>
                  <a:ext cx="304560" cy="4800600"/>
                  <a:chOff x="4571640" y="990360"/>
                  <a:chExt cx="304560" cy="48006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457164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457164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457164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457164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457164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457164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457164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457164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457164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457164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32" name=""/>
            <p:cNvGrpSpPr/>
            <p:nvPr/>
          </p:nvGrpSpPr>
          <p:grpSpPr>
            <a:xfrm>
              <a:off x="1371600" y="1143000"/>
              <a:ext cx="3657240" cy="4800600"/>
              <a:chOff x="1371600" y="1143000"/>
              <a:chExt cx="3657240" cy="480060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1371600" y="1143000"/>
                <a:ext cx="304560" cy="4800600"/>
                <a:chOff x="1371600" y="1143000"/>
                <a:chExt cx="304560" cy="48006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152388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5" name=""/>
                <p:cNvGrpSpPr/>
                <p:nvPr/>
              </p:nvGrpSpPr>
              <p:grpSpPr>
                <a:xfrm>
                  <a:off x="1371600" y="1143000"/>
                  <a:ext cx="304560" cy="4800600"/>
                  <a:chOff x="1371600" y="1143000"/>
                  <a:chExt cx="304560" cy="4800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137160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137160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137160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137160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137160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137160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37160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137160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137160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137160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6" name=""/>
              <p:cNvGrpSpPr/>
              <p:nvPr/>
            </p:nvGrpSpPr>
            <p:grpSpPr>
              <a:xfrm>
                <a:off x="4190760" y="1143000"/>
                <a:ext cx="304560" cy="4800600"/>
                <a:chOff x="4190760" y="1143000"/>
                <a:chExt cx="304560" cy="48006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34304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8" name=""/>
                <p:cNvGrpSpPr/>
                <p:nvPr/>
              </p:nvGrpSpPr>
              <p:grpSpPr>
                <a:xfrm>
                  <a:off x="4190760" y="1143000"/>
                  <a:ext cx="304560" cy="4800600"/>
                  <a:chOff x="4190760" y="1143000"/>
                  <a:chExt cx="304560" cy="480060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419076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419076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419076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419076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419076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419076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419076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419076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419076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419076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9" name=""/>
              <p:cNvGrpSpPr/>
              <p:nvPr/>
            </p:nvGrpSpPr>
            <p:grpSpPr>
              <a:xfrm>
                <a:off x="1981080" y="1143000"/>
                <a:ext cx="304560" cy="4800600"/>
                <a:chOff x="1981080" y="1143000"/>
                <a:chExt cx="304560" cy="48006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13336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1" name=""/>
                <p:cNvGrpSpPr/>
                <p:nvPr/>
              </p:nvGrpSpPr>
              <p:grpSpPr>
                <a:xfrm>
                  <a:off x="1981080" y="1143000"/>
                  <a:ext cx="304560" cy="4800600"/>
                  <a:chOff x="1981080" y="1143000"/>
                  <a:chExt cx="304560" cy="480060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198108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198108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198108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198108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198108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198108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198108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198108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198108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198108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2" name=""/>
              <p:cNvGrpSpPr/>
              <p:nvPr/>
            </p:nvGrpSpPr>
            <p:grpSpPr>
              <a:xfrm>
                <a:off x="3657600" y="1143000"/>
                <a:ext cx="304560" cy="4800600"/>
                <a:chOff x="3657600" y="1143000"/>
                <a:chExt cx="304560" cy="48006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380988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4" name=""/>
                <p:cNvGrpSpPr/>
                <p:nvPr/>
              </p:nvGrpSpPr>
              <p:grpSpPr>
                <a:xfrm>
                  <a:off x="3657600" y="1143000"/>
                  <a:ext cx="304560" cy="4800600"/>
                  <a:chOff x="3657600" y="1143000"/>
                  <a:chExt cx="304560" cy="480060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365760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365760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365760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365760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365760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365760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365760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365760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65760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65760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5" name=""/>
              <p:cNvGrpSpPr/>
              <p:nvPr/>
            </p:nvGrpSpPr>
            <p:grpSpPr>
              <a:xfrm>
                <a:off x="3124080" y="1143000"/>
                <a:ext cx="304560" cy="4800600"/>
                <a:chOff x="3124080" y="1143000"/>
                <a:chExt cx="304560" cy="48006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327636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7" name=""/>
                <p:cNvGrpSpPr/>
                <p:nvPr/>
              </p:nvGrpSpPr>
              <p:grpSpPr>
                <a:xfrm>
                  <a:off x="3124080" y="1143000"/>
                  <a:ext cx="304560" cy="4800600"/>
                  <a:chOff x="3124080" y="1143000"/>
                  <a:chExt cx="304560" cy="480060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312408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312408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12408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312408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12408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12408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312408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312408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312408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12408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8" name=""/>
              <p:cNvGrpSpPr/>
              <p:nvPr/>
            </p:nvGrpSpPr>
            <p:grpSpPr>
              <a:xfrm>
                <a:off x="2590560" y="1143000"/>
                <a:ext cx="304560" cy="4800600"/>
                <a:chOff x="2590560" y="1143000"/>
                <a:chExt cx="304560" cy="480060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274284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0" name=""/>
                <p:cNvGrpSpPr/>
                <p:nvPr/>
              </p:nvGrpSpPr>
              <p:grpSpPr>
                <a:xfrm>
                  <a:off x="2590560" y="1143000"/>
                  <a:ext cx="304560" cy="4800600"/>
                  <a:chOff x="2590560" y="1143000"/>
                  <a:chExt cx="304560" cy="480060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259056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259056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59056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59056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59056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59056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59056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259056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59056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59056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4724280" y="1143000"/>
                <a:ext cx="304560" cy="4800600"/>
                <a:chOff x="4724280" y="1143000"/>
                <a:chExt cx="304560" cy="48006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487656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4724280" y="1143000"/>
                  <a:ext cx="304560" cy="4800600"/>
                  <a:chOff x="4724280" y="1143000"/>
                  <a:chExt cx="304560" cy="480060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472428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472428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72428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72428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72428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472428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472428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72428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72428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72428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24" name=""/>
          <p:cNvGrpSpPr/>
          <p:nvPr/>
        </p:nvGrpSpPr>
        <p:grpSpPr>
          <a:xfrm>
            <a:off x="6477120" y="762120"/>
            <a:ext cx="1981080" cy="1981080"/>
            <a:chOff x="6477120" y="762120"/>
            <a:chExt cx="1981080" cy="1981080"/>
          </a:xfrm>
        </p:grpSpPr>
        <p:sp>
          <p:nvSpPr>
            <p:cNvPr id="425" name=""/>
            <p:cNvSpPr/>
            <p:nvPr/>
          </p:nvSpPr>
          <p:spPr>
            <a:xfrm>
              <a:off x="6553080" y="762120"/>
              <a:ext cx="1828800" cy="1981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43800" y="190512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86600" y="190512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34320" y="220968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15200" y="220968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6080" y="2209680"/>
              <a:ext cx="38124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24680" y="1905120"/>
              <a:ext cx="38124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6080" y="1614600"/>
              <a:ext cx="38124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315200" y="161460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77320" y="161460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858000" y="161460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77120" y="161460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29400" y="198108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908840" y="1309680"/>
              <a:ext cx="38124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27960" y="130968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47080" y="130968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89880" y="130968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18480" y="100476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75680" y="100476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56560" y="100476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5715000" y="3505320"/>
            <a:ext cx="34290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reexa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ssibility to deploy in volu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omnidirectional “pixellised” “disco” like PMT’s? Fill e.g a benthosphere with 10-20 smaller diameter PMT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volume vs surface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efficiency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ne adds a reflective material in the internal surface event better effici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us consider spherical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: N detectors of A cross-sectional area, deployed in a spherical surface (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= sphere radius (32,5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atten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 L=attenuation length (80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181480" y="3733920"/>
                <a:ext cx="7621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057400" y="5334120"/>
                <a:ext cx="472428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p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AL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L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one calculate the mean attenu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895320" y="1752480"/>
                <a:ext cx="7201080" cy="13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/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z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s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838080" y="3505320"/>
            <a:ext cx="266724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3372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4343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133720" y="35053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133720" y="38862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2133720" y="38095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362320" y="36576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710160" y="3301920"/>
                <a:ext cx="46814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0" name=""/>
          <p:cNvSpPr/>
          <p:nvPr/>
        </p:nvSpPr>
        <p:spPr>
          <a:xfrm>
            <a:off x="4191120" y="4572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spherical emission from a point z, along the z-axis without loss of generality, and integrate in z and theta (phi trivi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523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ume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sp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has a cell-volume around each PMT: v=V/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herefore has mean efficienc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st integral is the mean atten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revious result, it gives (i am uncertain whether it is correct, i do not understand it fully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04920" y="2590920"/>
                <a:ext cx="84582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nary>
                    <m:r>
                      <m:t xml:space="preserve">A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p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p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p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AL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nary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884160" y="4419720"/>
                <a:ext cx="66898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/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6629400" y="5562720"/>
                <a:ext cx="18288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 of efficiencies volume vs surf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ur case (R/L=0.4)  Q=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assume perfectly reflecting walls, (R towards infinity in the volume case?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077840" y="2286000"/>
                <a:ext cx="714240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932120" y="5486400"/>
                <a:ext cx="2894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5334120" y="57150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!!!!!!!!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reason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reconstruction vs 2D projection (good timing hel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s increase efficiency or in case one does not want this, a simple liner is sufficient: no tank needed. The cavern walls=tank wal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disco” structure replies to Larry S. argument that surface deployment gives more PM’s hi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bove all, increased efficiency permits reduction of the number of PMTs with a factor at least 3.6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ergy with KM3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omebody MonteCarlo all th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7T19:31:22Z</dcterms:created>
  <dc:creator>S. Katsanevas</dc:creator>
  <dc:description/>
  <dc:language>en-US</dc:language>
  <cp:lastModifiedBy>J.E Campagne</cp:lastModifiedBy>
  <dcterms:modified xsi:type="dcterms:W3CDTF">2006-06-19T08:05:13Z</dcterms:modified>
  <cp:revision>7</cp:revision>
  <dc:subject/>
  <dc:title>PowerPoint Presentation</dc:title>
</cp:coreProperties>
</file>